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990B-BDEE-4AE2-8508-48C61E060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ACE4-D072-46B6-A9F9-8E7E399AD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21B0-6D5F-4461-BFE1-562835C21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E233-95F4-46CB-A20D-E8895A75E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689D-F2A2-4498-A087-003B4289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0472-00D0-4D6E-AEF0-15D01270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DC5B-753A-4880-9D63-35FF98E6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C3CE-7E8B-433C-9B79-B2D61432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90A0-592C-4DDA-BF1B-7084FB58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FA08-B1A8-4179-9A12-40F36E38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466C-1267-43ED-91D4-907BE703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6102-0B9F-40D7-9E23-C2C310F3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8373-7ED3-40FC-BE3B-9D1B28B6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71FE-EEF6-45D1-A204-92FE90C5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C225-CD3F-4E76-8DE7-B9AB16A9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83C5-277D-4F43-8101-87333448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61B7-FEAE-4CD8-A9E0-ADD182CCE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image" Target="../media/image8.jpeg"/><Relationship Id="rId17" Type="http://schemas.openxmlformats.org/officeDocument/2006/relationships/image" Target="../media/image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2.jpeg"/><Relationship Id="rId7" Type="http://schemas.openxmlformats.org/officeDocument/2006/relationships/image" Target="../media/image10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isha Cooper Thomp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isha Cooper Thomp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ACT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2781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39680" y="3506760"/>
            <a:ext cx="1600200" cy="16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ember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eetwater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an , Hus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yler &amp; Josie, Child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 in Human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 Instructional Leader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/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Y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y #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s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4"/>
          <p:cNvSpPr/>
          <p:nvPr/>
        </p:nvSpPr>
        <p:spPr>
          <a:xfrm>
            <a:off x="2590920" y="2590920"/>
            <a:ext cx="4495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ha Cooper Thomps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duated, college first  member to atte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1995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0"/>
          <p:cNvSpPr/>
          <p:nvPr/>
        </p:nvSpPr>
        <p:spPr>
          <a:xfrm>
            <a:off x="2743200" y="525456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y &amp; J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7"/>
          <p:cNvSpPr/>
          <p:nvPr/>
        </p:nvSpPr>
        <p:spPr>
          <a:xfrm>
            <a:off x="2590920" y="32004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ha Cooper Thomps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itched, baby boy, degree, baby girl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3, 1996 – June 2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ha Cooper Thomps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QBC leaders, starts business, gets busy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200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ha Cooper Thomps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 City!  Best Trip Ever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ctober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5"/>
          <p:cNvSpPr/>
          <p:nvPr/>
        </p:nvSpPr>
        <p:spPr>
          <a:xfrm>
            <a:off x="2670120" y="5216400"/>
            <a:ext cx="44956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ha Cooper Thompson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e curriculum, standards, inclusion, evaluation,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2001                                              tenure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7"/>
          <p:cNvSpPr/>
          <p:nvPr/>
        </p:nvSpPr>
        <p:spPr>
          <a:xfrm>
            <a:off x="2743200" y="5867280"/>
            <a:ext cx="4724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8" descr="TTU.jpg"/>
          <p:cNvPicPr/>
          <p:nvPr/>
        </p:nvPicPr>
        <p:blipFill>
          <a:blip r:embed="rId4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88" name="Picture 57" descr="E:\vacation 085.jpg"/>
          <p:cNvPicPr/>
          <p:nvPr/>
        </p:nvPicPr>
        <p:blipFill>
          <a:blip r:embed="rId5"/>
          <a:stretch/>
        </p:blipFill>
        <p:spPr>
          <a:xfrm>
            <a:off x="139680" y="1103400"/>
            <a:ext cx="1817640" cy="1363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7" descr="E:\vacation 085.jpg"/>
          <p:cNvPicPr/>
          <p:nvPr/>
        </p:nvPicPr>
        <p:blipFill>
          <a:blip r:embed="rId6"/>
          <a:stretch/>
        </p:blipFill>
        <p:spPr>
          <a:xfrm>
            <a:off x="2054160" y="2590920"/>
            <a:ext cx="603360" cy="452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8" descr="E:\vacation 085.jpg"/>
          <p:cNvPicPr/>
          <p:nvPr/>
        </p:nvPicPr>
        <p:blipFill>
          <a:blip r:embed="rId7"/>
          <a:stretch/>
        </p:blipFill>
        <p:spPr>
          <a:xfrm>
            <a:off x="2066760" y="3165480"/>
            <a:ext cx="603360" cy="453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9" descr="E:\vacation 085.jpg"/>
          <p:cNvPicPr/>
          <p:nvPr/>
        </p:nvPicPr>
        <p:blipFill>
          <a:blip r:embed="rId8"/>
          <a:stretch/>
        </p:blipFill>
        <p:spPr>
          <a:xfrm>
            <a:off x="2050920" y="3870360"/>
            <a:ext cx="603360" cy="452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1" descr="E:\vacation 085.jpg"/>
          <p:cNvPicPr/>
          <p:nvPr/>
        </p:nvPicPr>
        <p:blipFill>
          <a:blip r:embed="rId9"/>
          <a:stretch/>
        </p:blipFill>
        <p:spPr>
          <a:xfrm>
            <a:off x="2050920" y="4475160"/>
            <a:ext cx="603360" cy="452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2" descr="E:\vacation 085.jpg"/>
          <p:cNvPicPr/>
          <p:nvPr/>
        </p:nvPicPr>
        <p:blipFill>
          <a:blip r:embed="rId10"/>
          <a:stretch/>
        </p:blipFill>
        <p:spPr>
          <a:xfrm>
            <a:off x="2041560" y="5216400"/>
            <a:ext cx="603360" cy="452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3" descr="E:\vacation 085.jpg"/>
          <p:cNvPicPr/>
          <p:nvPr/>
        </p:nvPicPr>
        <p:blipFill>
          <a:blip r:embed="rId11"/>
          <a:stretch/>
        </p:blipFill>
        <p:spPr>
          <a:xfrm>
            <a:off x="2016000" y="5975280"/>
            <a:ext cx="603360" cy="45252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2743200" y="60818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ha Cooper Thomps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ankful to be an educator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2" descr="E:\Vacation 2011 Garden City 019.JPG"/>
          <p:cNvPicPr/>
          <p:nvPr/>
        </p:nvPicPr>
        <p:blipFill>
          <a:blip r:embed="rId12"/>
          <a:stretch/>
        </p:blipFill>
        <p:spPr>
          <a:xfrm>
            <a:off x="168120" y="5334120"/>
            <a:ext cx="457200" cy="474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0" descr="E:\DSC05782_0131.jpg"/>
          <p:cNvPicPr/>
          <p:nvPr/>
        </p:nvPicPr>
        <p:blipFill>
          <a:blip r:embed="rId13"/>
          <a:stretch/>
        </p:blipFill>
        <p:spPr>
          <a:xfrm>
            <a:off x="685800" y="5334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8" descr="E:\55.jpg"/>
          <p:cNvPicPr/>
          <p:nvPr/>
        </p:nvPicPr>
        <p:blipFill>
          <a:blip r:embed="rId14"/>
          <a:stretch/>
        </p:blipFill>
        <p:spPr>
          <a:xfrm>
            <a:off x="1219320" y="5334120"/>
            <a:ext cx="609480" cy="533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7" descr="E:\006.JPG"/>
          <p:cNvPicPr/>
          <p:nvPr/>
        </p:nvPicPr>
        <p:blipFill>
          <a:blip r:embed="rId15"/>
          <a:stretch/>
        </p:blipFill>
        <p:spPr>
          <a:xfrm>
            <a:off x="0" y="6095880"/>
            <a:ext cx="639720" cy="53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3" descr="E:\vacation 082.jpg"/>
          <p:cNvPicPr/>
          <p:nvPr/>
        </p:nvPicPr>
        <p:blipFill>
          <a:blip r:embed="rId16"/>
          <a:stretch/>
        </p:blipFill>
        <p:spPr>
          <a:xfrm>
            <a:off x="609480" y="6095880"/>
            <a:ext cx="609840" cy="5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9" descr="E:\090.JPG"/>
          <p:cNvPicPr/>
          <p:nvPr/>
        </p:nvPicPr>
        <p:blipFill>
          <a:blip r:embed="rId17"/>
          <a:stretch/>
        </p:blipFill>
        <p:spPr>
          <a:xfrm>
            <a:off x="1295280" y="6095880"/>
            <a:ext cx="609840" cy="5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isha Cooper Thompson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loaded the c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657600" y="0"/>
            <a:ext cx="152388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5181480" y="0"/>
            <a:ext cx="121932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isha Cooper Thomp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ACT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152280" y="31719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152280" y="3400560"/>
            <a:ext cx="160020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xvill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ember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eetwater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an , Hus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yler &amp; Josie, Child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 in Human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 Instructional Leader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152280" y="492444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4"/>
          <p:cNvSpPr/>
          <p:nvPr/>
        </p:nvSpPr>
        <p:spPr>
          <a:xfrm>
            <a:off x="2133720" y="1905120"/>
            <a:ext cx="3124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c.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Kingston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Brian Thompson – 15 yea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Mother to Twin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yler 12, Josie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Bapt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2133720" y="3200400"/>
            <a:ext cx="449568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ding is my love and passion.  I also enjoy the outdoors, sporting events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at my children are involved with, boating, and going to bed ear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traveling, reading, baking, reading, boating,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Country, Contemporary Christian, Hymn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Princess Bride, Bambi, A Few Good M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ng of Queens, Teen M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Help,  To Kill A Mockingbird, Friday Night Ligh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7"/>
          <p:cNvSpPr/>
          <p:nvPr/>
        </p:nvSpPr>
        <p:spPr>
          <a:xfrm>
            <a:off x="838080" y="5486400"/>
            <a:ext cx="8384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My Lif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847800" y="6076800"/>
            <a:ext cx="83808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yler &amp;Jos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2133720" y="5105520"/>
            <a:ext cx="426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Wiki Page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ttp://integratingteachingandtechnology.wikispaces.com/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65) 274-84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hompson22@tntech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0" descr="TTU.jpg"/>
          <p:cNvPicPr/>
          <p:nvPr/>
        </p:nvPicPr>
        <p:blipFill>
          <a:blip r:embed="rId3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39" name="Picture 43" descr="E:\vacation 082.jpg"/>
          <p:cNvPicPr/>
          <p:nvPr/>
        </p:nvPicPr>
        <p:blipFill>
          <a:blip r:embed="rId4"/>
          <a:stretch/>
        </p:blipFill>
        <p:spPr>
          <a:xfrm>
            <a:off x="152280" y="5316480"/>
            <a:ext cx="666720" cy="681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4" descr="E:\Vacation 2011 Garden City 037.JPG"/>
          <p:cNvPicPr/>
          <p:nvPr/>
        </p:nvPicPr>
        <p:blipFill>
          <a:blip r:embed="rId5"/>
          <a:stretch/>
        </p:blipFill>
        <p:spPr>
          <a:xfrm>
            <a:off x="114480" y="6026040"/>
            <a:ext cx="771480" cy="696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7" descr="E:\vacation 085.jpg"/>
          <p:cNvPicPr/>
          <p:nvPr/>
        </p:nvPicPr>
        <p:blipFill>
          <a:blip r:embed="rId6"/>
          <a:stretch/>
        </p:blipFill>
        <p:spPr>
          <a:xfrm>
            <a:off x="239760" y="1542960"/>
            <a:ext cx="15127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76212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572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3657600" y="0"/>
            <a:ext cx="16002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257800" y="0"/>
            <a:ext cx="114300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isha Cooper Thomp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685800" y="1523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the My Lif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685800" y="4724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T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yler &amp; Jos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isha Cooper Thomps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is blessed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4" descr="TTU.jpg"/>
          <p:cNvPicPr/>
          <p:nvPr/>
        </p:nvPicPr>
        <p:blipFill>
          <a:blip r:embed="rId1"/>
          <a:stretch/>
        </p:blipFill>
        <p:spPr>
          <a:xfrm>
            <a:off x="8153280" y="457200"/>
            <a:ext cx="838440" cy="83808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pic>
        <p:nvPicPr>
          <p:cNvPr id="165" name="Picture 35" descr="E:\vacation 085.jpg"/>
          <p:cNvPicPr/>
          <p:nvPr/>
        </p:nvPicPr>
        <p:blipFill>
          <a:blip r:embed="rId2"/>
          <a:stretch/>
        </p:blipFill>
        <p:spPr>
          <a:xfrm>
            <a:off x="28440" y="533520"/>
            <a:ext cx="838440" cy="628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2" descr="E:\Vacation 2011 Garden City 019.JPG"/>
          <p:cNvPicPr/>
          <p:nvPr/>
        </p:nvPicPr>
        <p:blipFill>
          <a:blip r:embed="rId3"/>
          <a:stretch/>
        </p:blipFill>
        <p:spPr>
          <a:xfrm>
            <a:off x="819000" y="1905120"/>
            <a:ext cx="1257480" cy="1131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7" descr="E:\006.JPG"/>
          <p:cNvPicPr/>
          <p:nvPr/>
        </p:nvPicPr>
        <p:blipFill>
          <a:blip r:embed="rId4"/>
          <a:stretch/>
        </p:blipFill>
        <p:spPr>
          <a:xfrm>
            <a:off x="2133720" y="3352680"/>
            <a:ext cx="1369800" cy="114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8" descr="E:\55.jpg"/>
          <p:cNvPicPr/>
          <p:nvPr/>
        </p:nvPicPr>
        <p:blipFill>
          <a:blip r:embed="rId5"/>
          <a:stretch/>
        </p:blipFill>
        <p:spPr>
          <a:xfrm>
            <a:off x="3657600" y="3352680"/>
            <a:ext cx="1542960" cy="1105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7" descr="E:\vacation 085.jpg"/>
          <p:cNvPicPr/>
          <p:nvPr/>
        </p:nvPicPr>
        <p:blipFill>
          <a:blip r:embed="rId6"/>
          <a:stretch/>
        </p:blipFill>
        <p:spPr>
          <a:xfrm>
            <a:off x="3581280" y="4952880"/>
            <a:ext cx="1371600" cy="1238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3" descr="E:\vacation 082.jpg"/>
          <p:cNvPicPr/>
          <p:nvPr/>
        </p:nvPicPr>
        <p:blipFill>
          <a:blip r:embed="rId7"/>
          <a:stretch/>
        </p:blipFill>
        <p:spPr>
          <a:xfrm>
            <a:off x="205740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9" descr="E:\090.JPG"/>
          <p:cNvPicPr/>
          <p:nvPr/>
        </p:nvPicPr>
        <p:blipFill>
          <a:blip r:embed="rId8"/>
          <a:stretch/>
        </p:blipFill>
        <p:spPr>
          <a:xfrm>
            <a:off x="685800" y="3352680"/>
            <a:ext cx="1371600" cy="1067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0" descr="E:\DSC05782_0131.jpg"/>
          <p:cNvPicPr/>
          <p:nvPr/>
        </p:nvPicPr>
        <p:blipFill>
          <a:blip r:embed="rId9"/>
          <a:stretch/>
        </p:blipFill>
        <p:spPr>
          <a:xfrm>
            <a:off x="2133720" y="18288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1" descr="C:\Documents and Settings\Teacher\My Documents\My Pictures\vacation\vacation 104.jpg"/>
          <p:cNvPicPr/>
          <p:nvPr/>
        </p:nvPicPr>
        <p:blipFill>
          <a:blip r:embed="rId10"/>
          <a:stretch/>
        </p:blipFill>
        <p:spPr>
          <a:xfrm>
            <a:off x="5257800" y="3352680"/>
            <a:ext cx="1447920" cy="1067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2" descr="C:\Documents and Settings\Teacher\My Documents\My Pictures\vacation\vacation 089.jpg"/>
          <p:cNvPicPr/>
          <p:nvPr/>
        </p:nvPicPr>
        <p:blipFill>
          <a:blip r:embed="rId11"/>
          <a:stretch/>
        </p:blipFill>
        <p:spPr>
          <a:xfrm>
            <a:off x="6781680" y="3352680"/>
            <a:ext cx="1371600" cy="1067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4" descr="E:\Vacation 2011 Garden City 037.JPG"/>
          <p:cNvPicPr/>
          <p:nvPr/>
        </p:nvPicPr>
        <p:blipFill>
          <a:blip r:embed="rId12"/>
          <a:stretch/>
        </p:blipFill>
        <p:spPr>
          <a:xfrm>
            <a:off x="609480" y="5029200"/>
            <a:ext cx="121932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RCS</cp:lastModifiedBy>
  <cp:lastPrinted>2011-08-31T19:34:39Z</cp:lastPrinted>
  <dcterms:modified xsi:type="dcterms:W3CDTF">2011-09-01T18:18:45Z</dcterms:modified>
  <cp:revision>40</cp:revision>
  <dc:subject/>
  <dc:title>Profile</dc:title>
</cp:coreProperties>
</file>